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2CE06CE-C5E4-4189-9434-BC90020200E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B951B12C-2415-439E-A48A-616FB8FE840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Course Conclus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plan for teaching the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ommon problems and pitfalls that your students may encounter, and know how to help them overcome thes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grade and analyze studen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role as a change agent in introducing the PSP 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6600" spc="-1" strike="noStrike">
                <a:solidFill>
                  <a:srgbClr val="39536b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7Z</dcterms:modified>
  <cp:revision>166</cp:revision>
  <dc:subject/>
  <dc:title>No Slide Title</dc:title>
</cp:coreProperties>
</file>